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437-B70C-40E4-94AB-DA48A7B0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CB2-A95E-4D3B-AB24-E76B6583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4A8-885B-4F9F-B6A9-24C5D139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A90-3925-4827-9BED-AA6D2AB9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E07A-2AD6-4FEB-BFEE-3DC500D8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6FF7-3CE4-400F-85B8-64FE46A0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9218-A702-48D8-BAEF-07243C7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201D-9D30-4C4C-9DEC-F3C08B3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DA62-6652-4C6A-855D-5B8BDE5C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2EF-053A-41C1-B3F2-B98143A4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F585-A3C3-46F4-9F22-014DB320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CAD-1E36-457B-A9F5-16836B8A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D5B3-20E7-436A-BD7A-6352E5A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64E3-8414-4898-9E77-5AFE3F6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3F0-9ECC-47BF-ADA1-65F4C75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52E0-C555-48DD-9EDA-08277FCF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5ACD-C980-4896-9679-C8BAEEA9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CC0-58B4-4737-9BD3-F1C935B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1AC-9FC3-44C5-AD89-2642891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45D-7574-4913-B8C3-28AD106A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765-EDAC-48B7-8519-F6E80EFB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089-FD9E-4D41-B7D3-042B8D8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C96-788D-431B-9F3F-C55E1DA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594-8FF1-4571-96BD-5237F6C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EAB-E2F9-4535-B4ED-CE70E0EBCE5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5A9-CF5E-446E-BF32-35EC4F8AA8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58F8-685C-40A8-845A-EC0A6976579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7124-18AA-4247-A023-D1E85F0290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Ulysses_Grant_1870-1880.jpg" TargetMode="External"/><Relationship Id="rId3" Type="http://schemas.openxmlformats.org/officeDocument/2006/relationships/hyperlink" Target="http://upload.wikimedia.org/wikipedia/commons/d/d7/Ulysses_Grant_1870-1880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en/f/fa/The_First_Vot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Klan-in-gainesville.jpg" TargetMode="External"/><Relationship Id="rId3" Type="http://schemas.openxmlformats.org/officeDocument/2006/relationships/hyperlink" Target="http://en.wikipedia.org/wiki/Image:Klan-in-gainesville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.  Reco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period following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from 1865 to 18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refers to the process the federal government used to readmit the defeated Confederate states to th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87F-6248-4BBD-A829-AA0577743D5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C56C1-CDEB-46AE-88F6-9144B741D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.  1868 E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ysses S. Grant elected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votes in South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political experienc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president = carry out laws, not mak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nd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Image:Ulysses Grant 1870-188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A47-6BF0-406D-8098-E68FABA99D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414F2-EDAC-48CC-A815-2E475BFFAB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.  1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endment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7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rights extended to all citizens regardless of “race, color, or previous condition of servitu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Image:The First Vot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3625920" cy="4415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6B6-1DE5-4A6F-BD60-E8967ACD76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9B5EF-F5E3-4C61-9302-35EFC628C3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s become instrumental during the Civil Rights Movement during the 1950’s-197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Image:Martin Luther King Jr NYWTS.jpg"/>
          <p:cNvPicPr/>
          <p:nvPr/>
        </p:nvPicPr>
        <p:blipFill>
          <a:blip r:embed="rId2"/>
          <a:stretch/>
        </p:blipFill>
        <p:spPr>
          <a:xfrm>
            <a:off x="4876920" y="990720"/>
            <a:ext cx="3514680" cy="426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857-72A7-42CF-8726-7F37CB846B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C3998-91DA-471C-8901-D3C50E65D1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.  Reconstructing  Soci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Econom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ru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raised to help rebu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white adult males killed; popul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Poli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wags : white southerners who joined Rep.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etbaggers : Northerners who moved s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s: able to participate and run for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CC0-16BD-4C8A-BD4C-859EA7A298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0FC54-1AAC-40A9-9675-CB94FDA7B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.  Former sla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ration to southern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going to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their own churches; ministered became political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1889280" cy="187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406520" cy="126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3139920" cy="1755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5C3-0E25-4D32-A3E9-03E8F81C03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CA88A-909F-44F7-8A29-98AC065297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 Acres and a M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d sl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ght for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 acres and a m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 Johnson revokes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3391200" cy="3322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362320" y="3833640"/>
            <a:ext cx="4114800" cy="302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251-8F23-47F1-83E3-F4AB998823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E2587-289A-414C-BC1B-08E9DCCB5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Reconstruction Collap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White southerner’s frustration with AA and govt = Ku Klux Klan (KK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G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oy Republican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re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planter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AA from exercising political r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Members of the second Ku Klux Klan at a rally in 192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2286000"/>
            <a:ext cx="3429000" cy="2765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B59-B77E-48BE-8951-D260646A03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87DF-A0B8-449C-9496-7BB9FCCBB3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.  Redeeming of the S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Democrats back in power in gov’t &amp; 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B. Hayes becomes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sident, 1876 (Republic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ends with no real progress against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21200" y="1874880"/>
            <a:ext cx="803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Portrait of Rutherford B. Hayes"/>
          <p:cNvPicPr/>
          <p:nvPr/>
        </p:nvPicPr>
        <p:blipFill>
          <a:blip r:embed="rId2"/>
          <a:stretch/>
        </p:blipFill>
        <p:spPr>
          <a:xfrm>
            <a:off x="5181480" y="1295280"/>
            <a:ext cx="32562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996-A03F-46D9-B9BD-EAA9179DCD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BAA79-48E2-4AED-A165-93C85DFA6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.  Sharecro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467480" cy="460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B89-2A01-41A3-B4B1-7A7B898139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8A6AF-70CE-4F06-8991-4CB09CDA98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id the 1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mendment st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id 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mendment st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ere the failures and successes of reconstru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3DC-8793-4F9B-811B-01DA303224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666C4-538C-4A8D-8F3D-6C1F4E253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 Lincoln’s 10 %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0% of voting population needed to swear allegiance to Union; except high ranking offic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ratif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E12-1925-4D28-9FE1-88AB01C75E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0E335-DB1D-4164-B27B-8368A3CCB6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 Radical Republic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confederate leaders from holding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A achieve political e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with votes for Republ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. Stev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. Sum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183996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53080" y="3809880"/>
            <a:ext cx="1973520" cy="2252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CD3-A74D-4EA0-AFE8-BA09812E7A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80117-1971-42BF-A8C9-D0FED4E58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 Freedmens’ Bur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File:Freedman's bureau.jpg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5715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CE4-5F03-46D6-AFF7-66A8AA2A5E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18436-C4F6-46E4-A746-03BC7BF11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 Freedmens’ Bur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Agency to help A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706920" cy="461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D91-1217-4E13-95D0-101D2007CC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4AC00-2B9C-4FA4-83F5-83A6CCE55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m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0DF-5B8B-42A3-A2B0-A965C8132D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EE858-323A-4CAE-B88A-6515A9FA4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Andrew Johns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65-1869/Democr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31636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4FF-6F5A-46CF-9D19-35334460D7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014D8-B3A8-4294-A1ED-0ABCCE6EE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 Johnson’s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same as Lincoln’s but eventually pardons military and gov’t offi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more lenient than Lincoln with confederate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outhern states elected congressmen who previously held positions in Confederate army and go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odes implemented and supported by the southern gov’t; slave-like con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FB4-A6EC-413C-8324-652165F4FA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17AB7-7951-454C-A085-3BA5FC741E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.  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endment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6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hip extended to “all persons born or naturalized in the United Stat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process…”  Equal protection of the laws for every citi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wn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B51-CC8F-4303-B499-B0DD3E542A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0ACD-F498-4470-B782-24526BD4B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2:59:06Z</dcterms:created>
  <dc:creator> </dc:creator>
  <dc:description/>
  <dc:language>en-US</dc:language>
  <cp:lastModifiedBy>School District U46</cp:lastModifiedBy>
  <dcterms:modified xsi:type="dcterms:W3CDTF">2011-09-13T19:53:57Z</dcterms:modified>
  <cp:revision>15</cp:revision>
  <dc:subject/>
  <dc:title>Reconstruction</dc:title>
</cp:coreProperties>
</file>